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A47-CEFC-478A-A7E5-909B1FA0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553-8C3E-4C6F-B323-A2F123DA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B06-A8D0-47B9-9B71-F6360D7F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2CE-F389-4BBE-99DB-A1B335EC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5316-8EDE-4AE9-A774-7EE5C00F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02E4-3711-4E58-B4B3-DADAEBB4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BABC-9DE3-42CE-939D-B0AE7E03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4EAC-3173-46CC-902C-24342A28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3CFF-E50B-4D5B-8B32-8B26CE94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3141-8AA9-4FB8-AA68-5D1FC2E2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8EC9-73EB-4629-BDB0-52510E40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70F-EDAD-4192-8C0A-F43DD18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09DB-2B79-4519-A8EC-8F57E28E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ABA3-1FD4-4346-BB0E-5CC7B91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EBE8-2FE2-4447-A89E-E6C1FF2C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5970-D379-4032-8ECF-7A194387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E0A1-90C9-4921-8C05-F6E36A6D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C61-6440-40B3-A4A3-4A2F598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BF4-B8E1-4DAB-8CBF-BAF693C5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1B3-E6C1-4ADC-9C81-C3D521E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DE2-8090-45BD-A713-CE5AA647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8AB-682A-4EAC-AD2F-47F89B4D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41B-E208-42B8-8A52-13B602CB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E97-3AAF-410A-B4DC-7FDA18F6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C7C1-4664-4489-92BC-B5E8B74227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6B51-1D3E-4886-A4BD-EB03C6361F5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Introduce Divis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y Cl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00 Hungry A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students work with base ten block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air should start with the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fl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1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 ants split into groups, students will trade for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lon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or tens, and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cub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or 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ill have to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div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ts into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equ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group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fter making some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tra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student pair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ov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w to make the trades and the group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ecessary direct them to see what other groups have done with their bloc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 a challenge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students to explain a different way the ants could line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llustrate and write fact families for the lines the ants m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he pair rewrite the story using a template and a different number of ants – include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7:25:10Z</dcterms:created>
  <dc:creator> </dc:creator>
  <dc:description/>
  <dc:language>en-US</dc:language>
  <cp:lastModifiedBy> </cp:lastModifiedBy>
  <dcterms:modified xsi:type="dcterms:W3CDTF">2008-04-29T17:27:49Z</dcterms:modified>
  <cp:revision>2</cp:revision>
  <dc:subject/>
  <dc:title>Introduce Division</dc:title>
</cp:coreProperties>
</file>